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E42-57D3-478E-8FD8-277D9039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31F-F009-4303-B014-C7908451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8E337-1C5F-4039-BA40-5F052667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32726-E5C5-4738-B1A1-F5643899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9BA1C-7992-4611-B57A-4ED6FA85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31E7F-60A2-4972-8695-52058F6C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74F8B-71E0-46A7-98B1-80BF02E5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A5876-E4CC-4D9E-A83E-1619F4A8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27A4B-ABF8-4528-A2A2-BEF9F632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AE75B-6982-4115-9332-CDA48C65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E600E-7C7E-488A-B58D-B69BCA26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B239B-5493-479C-8DA5-1BDB316D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E04-B850-43F2-ADC0-F0FC0D8B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B9A86-8D3B-4B45-AD7B-1F8B41A5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F3784-6848-4B4A-89D7-0CC3A530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B1D4E-8F92-4C62-809D-58DF7918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C647C-0FF5-4F30-A509-DBCEDF28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3D0DB-AD75-4BF0-970F-BD9A624F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E59AB-AD79-405A-81C6-E424655E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B2BBC-D8AB-4686-999A-1720EDAD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7C330-67D9-46B1-965E-9E851F38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826E0-F18A-4209-BEA8-D1ECF0B8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7F5D0-4A65-4496-8353-B92D0A7F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A83-508D-4A1E-B8E1-0B14E215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B0881-987A-4332-A4BC-35ACCD63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9213B-43F5-4483-9E2C-C3212316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85894-6C57-4106-B992-13910484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28AC8-285C-4DE6-92B7-3A00CA5D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20D3F-3A35-415C-B318-959A7C84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3CCD3-234F-4201-AF76-63C29260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FED2C-8B6B-4050-A5AD-CD0C4CDD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6C792-CDFC-4C17-887A-CBFF5287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327DE-A679-4D6B-AD70-C7AB70EB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F16FD-0485-400F-A157-0DCD0D4B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B4D3-6006-4876-BC79-8C191930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5553F-0A71-4421-8DB6-85AF219E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8D482-EBF5-476C-B267-DE917CDC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0B31F-528E-482D-B128-96E37D27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4079C-9ADB-4B17-BC77-F7B7688C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3B0E1-44BF-40BD-8A42-BC64D42C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0CF79-993B-47DF-9FE4-7B1A766E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1B68D-A1E0-4B5D-A290-121A4D1E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45D01-FDEB-4617-8172-0A669FDC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1FE07-453D-426C-8C18-2983C99E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CCB5F-F793-4FF4-9471-113AB4F0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755C-8D20-4BB9-82B6-A8699114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604DC-E23B-4C05-BC84-A07E83D8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57A5C-0D64-48C4-83A2-FEBEF311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89DD0-43B5-416A-AE9C-45A83A69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F7F58-96D3-461A-BA1D-88484D0C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41B26-DD66-4D98-B9B2-C73A4FA6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10E02-A8C9-4F39-9DAA-D478E0F7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D9D0EF-31FC-4ECC-9745-9E361802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7C6F7B-B0C8-409D-9CA4-6F9A02C0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2B20B-86B9-4BF5-A521-E1CD9CC7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5AA49A-9B1E-414C-844E-35185778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5552-EF96-49E2-82D6-794B1F7B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079E3-4166-438F-A92F-D0763E22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16EDD8-C5E3-4FDC-938A-80F0AB86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CC57A9-509C-4659-A100-A2575829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49E80-2968-4DB4-BD37-894BA17F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874CD-CA92-47D1-9004-FA1823CF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9B739-5CF3-4AB6-A370-0A751A82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5810A8-163A-4763-B6B4-EF06932A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15865E-2DC8-4963-A043-ADF5E2DD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410E5-9857-40EE-A8D5-986EE66B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2D4627-DF5C-4DB3-AD49-B6A96AA7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9621-89DE-449E-A5AD-CE5D68E8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21BA14-2B62-4027-BF68-D3611C3B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996D07-0E1A-476C-BC39-066035BC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1F0ABB-728C-44B8-8F48-4EE0C219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25DD63-7250-4ADE-93BD-01BC46D3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ACD23C-64DA-4A7B-81AC-0D4CD993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B9785-AB72-4460-995C-5DCEACEB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75902-59F1-4B7F-BE8F-9CEFEB6C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0BD5E-BC66-46A6-814F-419F9101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7F9520-E066-4862-B24F-DA1CD733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CA2850-55A9-42D7-A71C-AE006DB8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7501-7D3E-459F-A2D0-CF8651EC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9182F9-4B92-4A25-8502-68251949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765B7A-6116-40AC-8B9A-639A88AC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EC6499-5329-41A1-83C9-8EFC8F89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4B4D13-303C-489A-9642-9E38F922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3C7E1E-4AA6-4DAA-BFCE-5956CBA5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2FC320-A94D-4F7B-BE22-682D45F7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28B126-BE25-4199-881A-F53BA229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E08883-9673-4FC6-AD79-4FA6A571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4D400D-4C25-4C2D-BDE2-E1A68D5A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E6D263-BEC2-4931-A263-92F7F4B2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A931-ABC0-4CF9-84BA-4737C8CC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6A75FB-7179-4115-8DA9-918A6725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CE963D-346A-428A-B501-4586C583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0F317D-5C4D-4468-A647-E479C5D2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8409F3-0959-42A1-87B9-8185F7CA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4EC8D9-EC58-4328-B040-216C762D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888E69-377D-4363-9CE3-902D7E78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D03293-8A33-4DC8-93D2-73790FE7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634DF2-75A1-4FC0-9EE4-56336F01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808BB4-456A-4539-98FD-8C767B7C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5AF318-A0A0-4191-8659-71F52405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1A6B-724F-40E9-A523-79123E36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12839-97B8-46BA-ADF5-C21F48AA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EC5833-97E3-46F2-B01D-F400B908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CEE9EE-6E12-48CC-A4AD-C1FA6FD8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D73147-2AAD-402C-88F1-628923CF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F0BB03-3A92-4CA5-9460-E101E5A8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D82FAB-6EC3-4A14-AB05-911DF5D8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CB0A8A-3456-4AFB-A1F4-0E2AF119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22B537-7AB9-4BAF-9C80-A0C13A35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CB137C-34AE-457D-BE74-27ACFB8E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9E7F8D-7CC3-4D0E-BC8D-04649FE8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AC9-440F-40F5-A1A0-1B76875F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B776-31D1-48EB-840A-E749D41F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35CD8A-2DA6-4072-9DE8-F446229C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0C3C46-40AA-4462-BC44-0B5EEA67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324B15-8F50-4ABE-B827-AF8CC498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C13D0D-5546-4230-9DE5-35546EBF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D0CF68-767E-4A87-A727-BA8B26AD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3B076A-9DCA-4B4E-A412-072A6158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5CA803-1674-4EB5-A703-13F06BCE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DA91D9-6CD8-422B-837F-6FC42C79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79B281-E349-4059-972B-8233836C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B1E4B4-26F3-4E29-B77B-4A4695F9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7F0B-57F0-4C25-B423-67FD2C92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7E2B15-6F27-4693-9642-D3174424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1F9A5F-20E2-4011-8D27-3219FBDE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A39216-3BD3-4CEA-A244-D580C749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C994A6-C029-4A11-8C34-31ED16A4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DD0587-43D3-415D-90CC-11D58A8F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6E4422-838B-4305-B547-5B6DCE75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CD16D0-445D-4827-BF9A-B4455E20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7FF5AB-4792-49A2-ACBE-619EC4A4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BFFD6E-D96D-433E-8B30-69AF983C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5CDCAE-0D9A-4D33-AD93-12ED95B2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E0C7-BCFF-4522-A8DF-8E07DD5A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2D4D9E-584C-411A-BC37-D60D4860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C44F2F-BAC1-4F77-99F3-58BE5AE6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670310-FC9F-4303-A381-5C833ED4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2E14A5-4F7D-40CD-8314-912DF864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977288-DF64-4312-8EBA-6C42C8C0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FA1347-1DE1-4126-9449-CDC8184F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C6A8ED-A9BA-489F-BBC2-73A63F29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F8821E-B159-43F1-9A55-ED9C947F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6F3B40-0721-4DE4-A5D1-F81EA2B6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E2DE0F-8CFB-4133-99CC-44E14CAA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FBF8-50EB-4895-A4BB-933895F1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27B04A-AB38-44D0-A378-9DB03F4E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D017A6-6F8E-4E1B-ADCD-5B22D590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0A140A-5B66-4442-B952-70A7BE89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562AF5-0DD0-4BAB-99AC-FC33C5D9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723BCF-36FB-4171-BBA6-9BFD8238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466853-CA5F-44B6-9693-61DDF47E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9AB4AF-4FFE-4FD0-992C-B97FF464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7365F7-AC69-421E-A3C7-73AFBA34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E57B44-DD49-4EE8-A2B2-A38A356A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EC644F-F922-428F-9F6F-9D9F9AD7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198C-86F8-4EB4-86BE-EC819BED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76043D-FAF4-4FB2-B25E-C5375D96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ECCE15-5FB0-4B88-9BFE-61A976B6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79AFF7-A63C-4803-AC1B-8EDC7FD5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9CB84A-9EE6-490B-8A6E-241D8236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373A02-AE8E-456D-A79B-4BDF22B0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ADFEF2-F065-40B0-8D38-AD1F19D3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A809DC-887B-46F2-9CAC-661E361C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AABF61-0F15-40C3-A16C-25441A5D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B8CC59-3355-43ED-A8FD-B7AC542F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3BA9A1-026A-4E6B-B456-9AB8E84A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50DAF-3CD8-4A7E-8B93-CD291216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CBB1A9-FD04-4235-B390-B0544DE3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5EE764-FF2C-42B1-A5D9-E05C81BC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A28C52-9129-4B01-82E5-4809DF80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E98E9-51CC-48A7-9245-4F21A1A3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9B0ED-7DE2-4D02-B198-C89C3C5B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1EB33-0CD0-4CD9-AC85-14589215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3E1A4-888E-4D47-9678-3E68D1C6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C909-C33A-4C78-B327-AB0E0F01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C7F6D-B7CB-4FC4-A8F9-540FEBDC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FF929-9F86-4FB0-B83E-C6746ADF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9959E-BC97-4569-8008-9F46835F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C81EA-1AB3-475A-A37B-05B5A5D3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9F6EC-40FA-45DB-A226-70CE943E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D2C90-E3F0-44FF-99FF-D49E49F5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782C8-8F92-4205-8FEE-5223C13D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F3DE3-AE5E-4D17-905E-0F26A5E0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B45C4-C723-4201-8D54-ADD4445C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157DC-503C-42AE-B14D-1B8C9002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48D8-B36B-4F3D-9264-E06B0C36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A3B11-9D0B-4C95-B450-7FDC2798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B2BF6-8763-4B97-8876-BCCFD424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D4844-4116-4705-A419-F1A6FCDF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05159-C85F-4270-911A-0C9F070F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559BD-94A5-404F-A93E-5107DEF1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B92F1-24A2-434D-BADE-919F1E77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2A1BA-EB1B-4F66-A7D1-4FC54948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D48EE-D175-48E0-832C-A923E713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0AB02-7B3C-4225-A1C9-4DF9970F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7FD3D-9D8F-4F00-BF99-82A59353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752-35DB-4886-8CD2-08291087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6A146-7C45-4D4C-88D1-4400ED0B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B7C61-8F92-419D-8FF9-30AD7DAC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FB31B-8775-428F-90D1-13B3407D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5229B-7086-4D3A-A608-C04AE06F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648F5-9069-4695-AA3C-74D86E66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E07FA-41D1-4180-B9FB-DBDA5675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13A60-1360-4979-971D-ED9A89F3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A041B-3A6B-4839-8F87-BA3F5B7A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34258-1AC9-4170-A80B-67B5A347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1919F-43EB-458B-B5BE-82DDAC5E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C54-F141-46A3-8FB4-C4BEEA2D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2E378-10EA-46A2-BC33-885883C7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A923F-945C-44B1-B892-8514AED4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6327C-B480-4CF2-82F3-EB05FD5A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510B0-B06C-4B0A-A8C3-A6C292FA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54540-AE4A-4BAA-82CE-9EC69554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68C66-9135-4A31-B95E-92145C3F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D110B-0C6F-49D8-A88C-C57F30E7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91704-85ED-4E6A-BC73-3A17F4C8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13BAC-39D7-4600-8493-B644B702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91C6C-D40B-4299-9A9E-DCD9E924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28B-1E72-463F-93E2-0A996871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6D5CB-586C-42BA-9F23-E2F0EA82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8119E-CCC8-4649-BEDE-05047AF2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3CC0B-76E3-45EC-8093-F76BC79F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62BA3-BF2C-45E8-8E9A-309EE361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CEF36-D155-4A12-BE0F-635D54F4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51EFB-AF17-404E-AE5F-FD58069F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7DFE0-9F37-4EEC-AD31-99402314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9CA01-78D3-4099-BA38-7EDE6DF5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9C7BB-AA9A-4C4A-8653-1F1BD323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16241-CBF5-4A3F-B713-4EAFF936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E57B-FB42-4506-B063-D933D03C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20421-126E-46BD-952D-38BAD92C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3768A-D6A8-4612-986A-A298EC11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79C72-6208-4D11-BE56-9AEFDEBB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A084B-15FC-4E0C-9B81-FB2507DB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01AAA-9183-44BD-A9EC-B9AB3132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C6C50-A107-4C9A-A6C7-C22FDB6E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33C91-2773-498D-93EF-BAE053A8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5C3B5-FD30-47F3-B611-84AF4BB8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1F59F-65DD-4FC1-A26E-F8D84354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06E6E-D17E-4695-BDBF-FDF08B5C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DF5-8C3E-4904-8924-9779FEA0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B2E74-5C2C-4B65-A53F-92DCEDFA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F6D42-5B06-494C-8CBA-8296DE83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31294-B4C5-4A05-94B8-95432495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17DF3-E825-414A-812A-06CAF59C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4DFAC-90EE-4A3B-8E4E-8CDCF5BD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7DCB7-C6E0-4F1A-B85B-8131B3C3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ECCEF-DA93-4C34-9633-3A4294D6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090D1-DFEB-42E7-9762-0C083DEE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7AF86-9B2B-4709-A916-00A6594D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89A94-403D-427A-B7A7-4D4F4B61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C0A6-5966-4F83-BC84-3DB5D39BF0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FEB8-7EEA-48B2-9FF4-A6EDAE5CE0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9145-5697-46B3-89C4-8C76833923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A262-9C3E-41C8-BBD8-0102A7E8F4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1865-8842-4E20-B9CE-03AB9501A9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1146-4A50-410D-BBD8-2A78E8794A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3BBE-D6CB-4877-B4CC-F125B1605B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AD3A-CEC5-49CF-9EA6-D8F1D960D2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24D1-CA8D-44AE-A148-57C4F6BED2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034D-B391-4B9F-B46B-B3E91BF2ED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6A7C-A9EB-47E0-B95B-4CBC4B30A0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DB24-8378-4D2F-BCB2-E9D5336895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E8DB-22E0-464D-A323-4C193EE275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116A-193C-4E81-9A10-AD194D04CF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5109-759E-4701-894A-32CC59F641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9672-75B1-40E6-9E3F-EA6B27ADF6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3BD5-8F27-4917-8EFE-6091213104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91B0-3FD0-4102-8A6C-20123A3AC2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EFAC-E298-4614-B23B-C397596613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A6B4-3733-4040-ACB8-0D626BF1D9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335C-0CFA-431C-8F3B-DA1DD8D4D7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FCBE-DB62-400E-AF86-2310392337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C0C8-8425-48FD-875A-48E1896523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BCA3-A2CB-4FB5-BF84-21991919CD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65EA-246D-4ECD-B254-8B798F216F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ECF8-2631-4987-9A30-A2694598F7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7CCC-D748-4027-B89F-4D8248773F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7A0A-A435-4C84-972F-F667B8E92E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5855-E44E-4A51-B1C6-0A4BD6EDB2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4ECC-106D-4FE7-B720-7DFDE6E0AE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C935-683D-4442-B1BE-29588582F1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21D1-268B-4E37-BCB4-34E6F3B845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D6CD-4C83-46A2-8D08-771A7A58F8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AB42-28A1-4771-8743-B6A5A9A7FB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6040-4611-4B65-9991-EED4917624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B52B-E98E-4302-AB9F-B1EB60AA01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95A3-8CDE-4AA9-89E8-3E5F4D498D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3B89-5191-4DD7-B759-D1983D56FB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19DE-949D-4FF6-B42D-DABA49B8E6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F539-BDEF-4798-A2C0-9650D0CCF1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539640" y="1812960"/>
            <a:ext cx="8204400" cy="106992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8679" descr=""/>
          <p:cNvPicPr/>
          <p:nvPr/>
        </p:nvPicPr>
        <p:blipFill>
          <a:blip r:embed="rId2"/>
          <a:stretch/>
        </p:blipFill>
        <p:spPr>
          <a:xfrm>
            <a:off x="2556000" y="3686040"/>
            <a:ext cx="3962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图片 69634" descr=""/>
          <p:cNvPicPr/>
          <p:nvPr/>
        </p:nvPicPr>
        <p:blipFill>
          <a:blip r:embed="rId1"/>
          <a:stretch/>
        </p:blipFill>
        <p:spPr>
          <a:xfrm>
            <a:off x="266760" y="2214720"/>
            <a:ext cx="8610480" cy="24285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5508720" y="2881440"/>
            <a:ext cx="934920" cy="3762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3"/>
          <a:stretch/>
        </p:blipFill>
        <p:spPr>
          <a:xfrm>
            <a:off x="2627280" y="4159080"/>
            <a:ext cx="792360" cy="3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68609" descr=""/>
          <p:cNvPicPr/>
          <p:nvPr/>
        </p:nvPicPr>
        <p:blipFill>
          <a:blip r:embed="rId1"/>
          <a:stretch/>
        </p:blipFill>
        <p:spPr>
          <a:xfrm>
            <a:off x="741240" y="2579760"/>
            <a:ext cx="6877080" cy="357192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68610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8562960" cy="11527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4500720" y="1322280"/>
            <a:ext cx="1008000" cy="3762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4"/>
          <a:stretch/>
        </p:blipFill>
        <p:spPr>
          <a:xfrm>
            <a:off x="7812000" y="1944720"/>
            <a:ext cx="1008000" cy="3762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5"/>
          <a:stretch/>
        </p:blipFill>
        <p:spPr>
          <a:xfrm>
            <a:off x="611280" y="2593800"/>
            <a:ext cx="1008000" cy="3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67585" descr=""/>
          <p:cNvPicPr/>
          <p:nvPr/>
        </p:nvPicPr>
        <p:blipFill>
          <a:blip r:embed="rId1"/>
          <a:stretch/>
        </p:blipFill>
        <p:spPr>
          <a:xfrm>
            <a:off x="262080" y="866880"/>
            <a:ext cx="8619840" cy="55148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2"/>
          <a:stretch/>
        </p:blipFill>
        <p:spPr>
          <a:xfrm>
            <a:off x="8388360" y="1460520"/>
            <a:ext cx="431640" cy="3762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3"/>
          <a:stretch/>
        </p:blipFill>
        <p:spPr>
          <a:xfrm>
            <a:off x="900000" y="2017800"/>
            <a:ext cx="432000" cy="3762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4"/>
          <a:stretch/>
        </p:blipFill>
        <p:spPr>
          <a:xfrm>
            <a:off x="5867280" y="2027160"/>
            <a:ext cx="432000" cy="3762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5"/>
          <a:stretch/>
        </p:blipFill>
        <p:spPr>
          <a:xfrm>
            <a:off x="2700360" y="3179880"/>
            <a:ext cx="43164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66561" descr=""/>
          <p:cNvPicPr/>
          <p:nvPr/>
        </p:nvPicPr>
        <p:blipFill>
          <a:blip r:embed="rId1"/>
          <a:stretch/>
        </p:blipFill>
        <p:spPr>
          <a:xfrm>
            <a:off x="281160" y="1219320"/>
            <a:ext cx="8581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图片 65537" descr=""/>
          <p:cNvPicPr/>
          <p:nvPr/>
        </p:nvPicPr>
        <p:blipFill>
          <a:blip r:embed="rId1"/>
          <a:stretch/>
        </p:blipFill>
        <p:spPr>
          <a:xfrm>
            <a:off x="557280" y="728640"/>
            <a:ext cx="8029440" cy="54007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2"/>
          <a:stretch/>
        </p:blipFill>
        <p:spPr>
          <a:xfrm>
            <a:off x="539640" y="793800"/>
            <a:ext cx="7848720" cy="4017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3"/>
          <a:stretch/>
        </p:blipFill>
        <p:spPr>
          <a:xfrm>
            <a:off x="468360" y="1370160"/>
            <a:ext cx="7848720" cy="4014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4"/>
          <a:stretch/>
        </p:blipFill>
        <p:spPr>
          <a:xfrm>
            <a:off x="468360" y="1930320"/>
            <a:ext cx="7848720" cy="4017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5"/>
          <a:stretch/>
        </p:blipFill>
        <p:spPr>
          <a:xfrm>
            <a:off x="395280" y="2506680"/>
            <a:ext cx="7848720" cy="4017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6"/>
          <a:stretch/>
        </p:blipFill>
        <p:spPr>
          <a:xfrm>
            <a:off x="468360" y="3083040"/>
            <a:ext cx="8207280" cy="7776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7"/>
          <a:stretch/>
        </p:blipFill>
        <p:spPr>
          <a:xfrm>
            <a:off x="324000" y="4076640"/>
            <a:ext cx="7848360" cy="4017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8"/>
          <a:stretch/>
        </p:blipFill>
        <p:spPr>
          <a:xfrm>
            <a:off x="250920" y="4653000"/>
            <a:ext cx="7848360" cy="4017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9"/>
          <a:stretch/>
        </p:blipFill>
        <p:spPr>
          <a:xfrm>
            <a:off x="250920" y="5243400"/>
            <a:ext cx="82072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图片 64513" descr=""/>
          <p:cNvPicPr/>
          <p:nvPr/>
        </p:nvPicPr>
        <p:blipFill>
          <a:blip r:embed="rId1"/>
          <a:stretch/>
        </p:blipFill>
        <p:spPr>
          <a:xfrm>
            <a:off x="237960" y="1333440"/>
            <a:ext cx="8668080" cy="41911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2"/>
          <a:stretch/>
        </p:blipFill>
        <p:spPr>
          <a:xfrm>
            <a:off x="2627280" y="3227400"/>
            <a:ext cx="460440" cy="4017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3"/>
          <a:stretch/>
        </p:blipFill>
        <p:spPr>
          <a:xfrm>
            <a:off x="3519360" y="4970520"/>
            <a:ext cx="46044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组合 60430"/>
          <p:cNvGrpSpPr/>
          <p:nvPr/>
        </p:nvGrpSpPr>
        <p:grpSpPr>
          <a:xfrm>
            <a:off x="223920" y="981000"/>
            <a:ext cx="8740800" cy="4968720"/>
            <a:chOff x="223920" y="981000"/>
            <a:chExt cx="8740800" cy="4968720"/>
          </a:xfrm>
        </p:grpSpPr>
        <p:pic>
          <p:nvPicPr>
            <p:cNvPr id="1025" name="图片 60428" descr=""/>
            <p:cNvPicPr/>
            <p:nvPr/>
          </p:nvPicPr>
          <p:blipFill>
            <a:blip r:embed="rId1"/>
            <a:stretch/>
          </p:blipFill>
          <p:spPr>
            <a:xfrm>
              <a:off x="223920" y="1082520"/>
              <a:ext cx="8696160" cy="486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Picture 1" descr=""/>
            <p:cNvPicPr/>
            <p:nvPr/>
          </p:nvPicPr>
          <p:blipFill>
            <a:blip r:embed="rId2"/>
            <a:stretch/>
          </p:blipFill>
          <p:spPr>
            <a:xfrm>
              <a:off x="7596360" y="981000"/>
              <a:ext cx="1368360" cy="64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4859280" y="2214720"/>
            <a:ext cx="358920" cy="312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7020000" y="2214720"/>
            <a:ext cx="647640" cy="312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7596360" y="2593800"/>
            <a:ext cx="1008000" cy="312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971640" y="2952720"/>
            <a:ext cx="1008000" cy="312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7"/>
          <a:stretch/>
        </p:blipFill>
        <p:spPr>
          <a:xfrm>
            <a:off x="3419640" y="3716280"/>
            <a:ext cx="720720" cy="312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8"/>
          <a:stretch/>
        </p:blipFill>
        <p:spPr>
          <a:xfrm>
            <a:off x="5076720" y="3716280"/>
            <a:ext cx="720720" cy="312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9"/>
          <a:stretch/>
        </p:blipFill>
        <p:spPr>
          <a:xfrm>
            <a:off x="3492360" y="4076640"/>
            <a:ext cx="720720" cy="312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10"/>
          <a:stretch/>
        </p:blipFill>
        <p:spPr>
          <a:xfrm>
            <a:off x="5651640" y="4076640"/>
            <a:ext cx="433080" cy="312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11"/>
          <a:stretch/>
        </p:blipFill>
        <p:spPr>
          <a:xfrm>
            <a:off x="4356000" y="4456080"/>
            <a:ext cx="433440" cy="312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2"/>
          <a:stretch/>
        </p:blipFill>
        <p:spPr>
          <a:xfrm>
            <a:off x="6156360" y="4446720"/>
            <a:ext cx="792000" cy="312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3"/>
          <a:stretch/>
        </p:blipFill>
        <p:spPr>
          <a:xfrm>
            <a:off x="6804000" y="5205240"/>
            <a:ext cx="1081080" cy="312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4"/>
          <a:stretch/>
        </p:blipFill>
        <p:spPr>
          <a:xfrm>
            <a:off x="2050920" y="5580000"/>
            <a:ext cx="10810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59410" descr=""/>
          <p:cNvPicPr/>
          <p:nvPr/>
        </p:nvPicPr>
        <p:blipFill>
          <a:blip r:embed="rId1"/>
          <a:stretch/>
        </p:blipFill>
        <p:spPr>
          <a:xfrm>
            <a:off x="195120" y="919080"/>
            <a:ext cx="8753760" cy="5019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8317080" y="2060640"/>
            <a:ext cx="358560" cy="312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8317080" y="5238720"/>
            <a:ext cx="3585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58373" descr=""/>
          <p:cNvPicPr/>
          <p:nvPr/>
        </p:nvPicPr>
        <p:blipFill>
          <a:blip r:embed="rId1"/>
          <a:stretch/>
        </p:blipFill>
        <p:spPr>
          <a:xfrm>
            <a:off x="204840" y="668160"/>
            <a:ext cx="8734320" cy="6000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8317080" y="1019160"/>
            <a:ext cx="358560" cy="312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8388360" y="2492280"/>
            <a:ext cx="358920" cy="312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8388360" y="3645000"/>
            <a:ext cx="358920" cy="312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8379000" y="4816440"/>
            <a:ext cx="3585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57352" descr=""/>
          <p:cNvPicPr/>
          <p:nvPr/>
        </p:nvPicPr>
        <p:blipFill>
          <a:blip r:embed="rId1"/>
          <a:stretch/>
        </p:blipFill>
        <p:spPr>
          <a:xfrm>
            <a:off x="266760" y="1581120"/>
            <a:ext cx="8610480" cy="3695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6056280" y="2286000"/>
            <a:ext cx="43200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56324" descr=""/>
          <p:cNvPicPr/>
          <p:nvPr/>
        </p:nvPicPr>
        <p:blipFill>
          <a:blip r:embed="rId1"/>
          <a:stretch/>
        </p:blipFill>
        <p:spPr>
          <a:xfrm>
            <a:off x="262080" y="1195560"/>
            <a:ext cx="8619840" cy="44668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8037360" y="1925640"/>
            <a:ext cx="43200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55300" descr=""/>
          <p:cNvPicPr/>
          <p:nvPr/>
        </p:nvPicPr>
        <p:blipFill>
          <a:blip r:embed="rId1"/>
          <a:stretch/>
        </p:blipFill>
        <p:spPr>
          <a:xfrm>
            <a:off x="247680" y="1233360"/>
            <a:ext cx="8648640" cy="4391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8037360" y="3870360"/>
            <a:ext cx="43200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54276" descr=""/>
          <p:cNvPicPr/>
          <p:nvPr/>
        </p:nvPicPr>
        <p:blipFill>
          <a:blip r:embed="rId1"/>
          <a:stretch/>
        </p:blipFill>
        <p:spPr>
          <a:xfrm>
            <a:off x="281160" y="1566720"/>
            <a:ext cx="8581680" cy="37245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8028000" y="2276640"/>
            <a:ext cx="43164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52231" descr=""/>
          <p:cNvPicPr/>
          <p:nvPr/>
        </p:nvPicPr>
        <p:blipFill>
          <a:blip r:embed="rId1"/>
          <a:stretch/>
        </p:blipFill>
        <p:spPr>
          <a:xfrm>
            <a:off x="295200" y="1357200"/>
            <a:ext cx="8553600" cy="41436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8028000" y="2708280"/>
            <a:ext cx="43164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2:50:0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